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28.jpeg" ContentType="image/jpeg"/>
  <Override PartName="/ppt/media/image34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35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1.wmf" ContentType="image/x-wmf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67D7-A268-4517-997C-54CD61B33D8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яд Жуки или Жесткокрыл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биологии и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ше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чкова Ирина Анато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84BA-EF15-4F2D-8114-5ACB86580BA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начение жук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ьшую пользу человеку в борьбе с вредителями садов и огородов приносят хищные жуки, например, жужелицы. Жуки – красотелы помогают в борьбе с непарным шелкопря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3333-FF22-44CD-851F-69098E850A2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и – могильщики и трупоеды закапывают мёртвых мелких животных и, питаясь разложившимися останками, способствуют очищению почвы от трупов, накоплению перегноя в 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4454-5720-4CEF-9823-49F5B89855F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и – навозники и скарабеи выполняют функцию санитаров, зарывая навоз в поч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D4B4-D8D7-4160-9E35-25D887A094D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мятник жуку-навознику в Лондоне.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-навозник признан самым сильным насекомым на плане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того чтобы измерить, какой груз сможет поднять жук, ученые приклеили к его надкрыльям нить и перекинули его через блок. К концу нити они прикрепили небольшое ведерко, в которое по каплям добавляли воду. По итогам эксперимента было установлено, что навозник способен поднимать груз, масса которого эквивалентна 1141 массе тела жу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примеру, для человека это равноценно подъему большегрузного тягача с прицепом.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DCB1-7417-430B-A36F-B3C11D3BB22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карабей. Священный жук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блюдая за поведением жука скарабея египтяне заметили, что он обрабатывает вязкую массу навоза, настойчиво и упорно перекатывая ее перед собой так, что она постепенно превращается в совершенный круглый шарик - сферу, в которую потом скарабей откладывает яй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явившиеся личинки питаются навозом, из которого сделаны шар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пив навозный шарик, жук катит его с востока на запад и, вырыв норку, прячет его в ней на 28 д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29-й день он отрывает шарик, бросает в воду, и из него появляются детеныш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EB2A-2882-4EBF-ADA6-20A9EEED9EC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жьи коровки приносят большую пользу хозяйству человека, уничтожая и во взрослом , и в личиночном состояниях вредителей растений: тлю, червеца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BB82-477E-42F5-870A-E3F3F6D9721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едят рыболовству жуки – плавунцы: они и их личинки нападают на мальков ры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46E7-1E97-428E-A26A-74B39470546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йские жуки, или хрущи, вредят огородным, почвенным и лесным растениям, объедая их кор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E2E8-4214-42F2-8AFA-B898240FA77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лебные жуки, или кузьки, повреждают зёрна злаков: ржи, ячменя, пше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123D-B9D1-4B9D-B78F-64B9224AAC8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и – бронзовки объедают цветки различных раст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5D69-0606-4F3F-B2A7-B12E31006CF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и – щелкуны и их личинки – проволочники вредят культурным растениям, повреждая их подземные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D34A-EFC3-4957-8F2B-31AD0FC2E7A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инки жуков – дровосеков, или усачей, - опасные вредители л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0F46-BB04-400D-BB50-0BA4817C439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оники, или долгоносики, также вредят садам, огородам и ле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F2E4-13EC-4C00-AF47-D56D03A0F71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ые фасеточные гл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9636-C437-4B65-B7F1-DFE611EED9F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товой аппарат грызущего ти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D57F-BBEC-463A-AE01-EC56933F717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B5A3-C142-41B1-A7BD-F9F97816631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с полным превращ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FB8B-255F-4555-99EB-63A1D7DF3B2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инка ж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4E42-B63E-4A8F-B8BC-10A9224D216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колка ж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361B-8D6F-41A2-B93F-06DFAEE5BE6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а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1CF5-6E2C-418F-99A3-254AA3B0805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5A88-65FE-4A39-AE90-66187389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0ACE-95DB-4EFD-8740-A13C7221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B5F1-C69A-43E7-BA07-0910DD12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4407-CAA5-466A-B2CB-4287FC26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2617-D35F-4DE0-BDA8-F1629ED30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F02E-2239-4CA9-B470-99F46458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A4E6-0C13-4F8B-B32C-04FEB10A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E6DF-0B79-4715-BFA2-134A86F0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3968-1349-45E8-B25A-3BC933F2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6888-46C7-4F6A-9373-47DF85DE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20CB-E8F1-4454-8620-A77A8A34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CB00-6582-49EB-AF6F-D6E1CA72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137E-F8B9-4C59-BB28-1D55D21D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A8C7-1919-4153-93D2-ECF72360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FA03-D477-4027-8D62-B38FE4A1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36A4-D2CD-465F-B09A-AAA67BE0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95ED-C358-415D-AE10-4E4FEFD6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026B-D19E-4CFD-900E-120D4F66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AEA5-B266-411C-A6DE-A1EE96CD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17C9-366B-4259-B75F-F90592B6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1139-80FB-4E81-9B87-A9FDC020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CC16-DC6A-48C8-B9A1-54A532F8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5652-C27C-4FA3-B1BC-25A04143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54E6-C65F-4759-8180-3F0A8121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78C6-37CA-4E51-ACE8-72E1C7C61E6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504F-AAB8-4EF9-91B2-46B6C1E88558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50560" y="836280"/>
            <a:ext cx="41403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тряд Жуки или Жесткокрылы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9280" y="4869000"/>
            <a:ext cx="3060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Составила: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учитель биологии и хими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высшей квалификационной категори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Бочкова Ирина Анатольевн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39640" y="189000"/>
            <a:ext cx="676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Ленинградская область, Волховский район,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3492360" y="2565360"/>
            <a:ext cx="5524560" cy="4143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43527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начение жуков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77040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Большую пользу человеку в борьбе с вредителями садов и огородов приносят хищные жуки, например, жужелицы. Жуки – красотелы помогают в борьбе с непарным шелкопрядо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Picture 5" descr="300px-Carabus_auratus_with_prey"/>
          <p:cNvPicPr/>
          <p:nvPr/>
        </p:nvPicPr>
        <p:blipFill>
          <a:blip r:embed="rId2"/>
          <a:stretch/>
        </p:blipFill>
        <p:spPr>
          <a:xfrm>
            <a:off x="324000" y="3112920"/>
            <a:ext cx="4535280" cy="3386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36" name="Picture 7" descr="2942"/>
          <p:cNvPicPr/>
          <p:nvPr/>
        </p:nvPicPr>
        <p:blipFill>
          <a:blip r:embed="rId3"/>
          <a:stretch/>
        </p:blipFill>
        <p:spPr>
          <a:xfrm>
            <a:off x="4356000" y="3789360"/>
            <a:ext cx="4176720" cy="2422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Жуки – могильщики и трупоеды закапывают мёртвых мелких животных и, питаясь разложившимися останками, способствуют очищению почвы от трупов, накоплению перегноя в не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9" name="Picture 5" descr="17806"/>
          <p:cNvPicPr/>
          <p:nvPr/>
        </p:nvPicPr>
        <p:blipFill>
          <a:blip r:embed="rId2"/>
          <a:stretch/>
        </p:blipFill>
        <p:spPr>
          <a:xfrm>
            <a:off x="3995640" y="3213000"/>
            <a:ext cx="4969080" cy="3359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40" name="Picture 9" descr="amer"/>
          <p:cNvPicPr/>
          <p:nvPr/>
        </p:nvPicPr>
        <p:blipFill>
          <a:blip r:embed="rId3"/>
          <a:stretch/>
        </p:blipFill>
        <p:spPr>
          <a:xfrm>
            <a:off x="250920" y="2421000"/>
            <a:ext cx="4725720" cy="3098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73868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Жуки – навозники и скарабеи выполняют функцию санитаров, зарывая навоз в почв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3" name="Picture 5" descr="09d4c333a0606a246ea978198b7f9292"/>
          <p:cNvPicPr/>
          <p:nvPr/>
        </p:nvPicPr>
        <p:blipFill>
          <a:blip r:embed="rId2"/>
          <a:stretch/>
        </p:blipFill>
        <p:spPr>
          <a:xfrm>
            <a:off x="250920" y="1557360"/>
            <a:ext cx="4889520" cy="3521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44" name="Picture 7" descr="Священный жук скарабей скачать заставки, обои на рабочий стол"/>
          <p:cNvPicPr/>
          <p:nvPr/>
        </p:nvPicPr>
        <p:blipFill>
          <a:blip r:embed="rId3"/>
          <a:stretch/>
        </p:blipFill>
        <p:spPr>
          <a:xfrm>
            <a:off x="4572000" y="3933720"/>
            <a:ext cx="4368960" cy="2730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115920"/>
            <a:ext cx="74768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амятник жуку-навознику в Лондоне. 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052640"/>
            <a:ext cx="5821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Жук-навозник признан самым сильным насекомым на планет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Для того чтобы измерить, какой груз сможет поднять жук, ученые приклеили к его надкрыльям нить и перекинули его через блок. К концу нити они прикрепили небольшое ведерко, в которое по каплям добавляли воду. По итогам эксперимента было установлено, что навозник способен поднимать груз, масса которого эквивалентна 1141 массе тела жук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К примеру, для человека это равноценно подъему большегрузного тягача с прицепом. </a:t>
            </a:r>
            <a:br>
              <a:rPr sz="2400"/>
            </a:b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Picture 5" descr="Памятник жуку-навознику в Лондоне. Фото с сайта fotki.yandex.ru"/>
          <p:cNvPicPr/>
          <p:nvPr/>
        </p:nvPicPr>
        <p:blipFill>
          <a:blip r:embed="rId4"/>
          <a:stretch/>
        </p:blipFill>
        <p:spPr>
          <a:xfrm>
            <a:off x="5938920" y="4419720"/>
            <a:ext cx="3097080" cy="2322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Скарабей. Священный жук.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4560" y="620280"/>
            <a:ext cx="5329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Наблюдая за поведением жука скарабея египтяне заметили, что он обрабатывает вязкую массу навоза, настойчиво и упорно перекатывая ее перед собой так, что она постепенно превращается в совершенный круглый шарик - сферу, в которую потом скарабей откладывает яйц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Появившиеся личинки питаются навозом, из которого сделаны шарик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Слепив навозный шарик, жук катит его с востока на запад и, вырыв норку, прячет его в ней на 28 дней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На 29-й день он отрывает шарик, бросает в воду, и из него появляются детеныш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Picture 5" descr="scarabaeus_2_londonzoo_400"/>
          <p:cNvPicPr/>
          <p:nvPr/>
        </p:nvPicPr>
        <p:blipFill>
          <a:blip r:embed="rId5"/>
          <a:stretch/>
        </p:blipFill>
        <p:spPr>
          <a:xfrm>
            <a:off x="5219640" y="4292640"/>
            <a:ext cx="3810240" cy="2352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Божьи коровки приносят большую пользу хозяйству человека, уничтожая и во взрослом , и в личиночном состояниях вредителей растений: тлю, червеца и т.д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5" name="Picture 5" descr="ladybird"/>
          <p:cNvPicPr/>
          <p:nvPr/>
        </p:nvPicPr>
        <p:blipFill>
          <a:blip r:embed="rId2"/>
          <a:stretch/>
        </p:blipFill>
        <p:spPr>
          <a:xfrm>
            <a:off x="684360" y="2205000"/>
            <a:ext cx="6697440" cy="4491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7386480" cy="18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Вредят рыболовству жуки – плавунцы: они и их личинки нападают на мальков рыб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8" name="Picture 5" descr="Картинка 4 из 596"/>
          <p:cNvPicPr/>
          <p:nvPr/>
        </p:nvPicPr>
        <p:blipFill>
          <a:blip r:embed="rId2"/>
          <a:stretch/>
        </p:blipFill>
        <p:spPr>
          <a:xfrm>
            <a:off x="324000" y="1228680"/>
            <a:ext cx="7127640" cy="5394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4560" y="188640"/>
            <a:ext cx="7921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Майские жуки, или хрущи, вредят огородным, почвенным и лесным растениям, объедая их корн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1" name="Picture 5" descr="Картинка 5 из 13288"/>
          <p:cNvPicPr/>
          <p:nvPr/>
        </p:nvPicPr>
        <p:blipFill>
          <a:blip r:embed="rId2"/>
          <a:stretch/>
        </p:blipFill>
        <p:spPr>
          <a:xfrm>
            <a:off x="539640" y="1620720"/>
            <a:ext cx="6828120" cy="5121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5160" y="1551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Хлебные жуки, или кузьки, повреждают зёрна злаков: ржи, ячменя, пшениц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4" name="Picture 5" descr="0_3e52b_8489b996_L"/>
          <p:cNvPicPr/>
          <p:nvPr/>
        </p:nvPicPr>
        <p:blipFill>
          <a:blip r:embed="rId2"/>
          <a:stretch/>
        </p:blipFill>
        <p:spPr>
          <a:xfrm>
            <a:off x="250920" y="1125360"/>
            <a:ext cx="4500360" cy="5410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65" name="Picture 7" descr="Картинка 6 из 33"/>
          <p:cNvPicPr/>
          <p:nvPr/>
        </p:nvPicPr>
        <p:blipFill>
          <a:blip r:embed="rId3"/>
          <a:stretch/>
        </p:blipFill>
        <p:spPr>
          <a:xfrm>
            <a:off x="4224240" y="3186000"/>
            <a:ext cx="4740480" cy="3556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7386480" cy="9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Жуки – бронзовки объедают цветки различных растени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8" name="Picture 5" descr="Картинка 9 из 1109"/>
          <p:cNvPicPr/>
          <p:nvPr/>
        </p:nvPicPr>
        <p:blipFill>
          <a:blip r:embed="rId2"/>
          <a:stretch/>
        </p:blipFill>
        <p:spPr>
          <a:xfrm>
            <a:off x="324000" y="1263600"/>
            <a:ext cx="5400360" cy="5373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69" name="Picture 7" descr="Картинка 14 из 1109"/>
          <p:cNvPicPr/>
          <p:nvPr/>
        </p:nvPicPr>
        <p:blipFill>
          <a:blip r:embed="rId3"/>
          <a:stretch/>
        </p:blipFill>
        <p:spPr>
          <a:xfrm>
            <a:off x="4859280" y="1844640"/>
            <a:ext cx="4097520" cy="4097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Maybug"/>
          <p:cNvPicPr/>
          <p:nvPr/>
        </p:nvPicPr>
        <p:blipFill>
          <a:blip r:embed="rId1"/>
          <a:stretch/>
        </p:blipFill>
        <p:spPr>
          <a:xfrm>
            <a:off x="179280" y="434880"/>
            <a:ext cx="7705800" cy="6242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05" name="Line 7"/>
          <p:cNvSpPr/>
          <p:nvPr/>
        </p:nvSpPr>
        <p:spPr>
          <a:xfrm flipH="1" flipV="1">
            <a:off x="5508360" y="1844280"/>
            <a:ext cx="1368360" cy="1079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Line 8"/>
          <p:cNvSpPr/>
          <p:nvPr/>
        </p:nvSpPr>
        <p:spPr>
          <a:xfrm flipH="1" flipV="1">
            <a:off x="2268360" y="2565000"/>
            <a:ext cx="460872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 flipV="1">
            <a:off x="1476000" y="5229000"/>
            <a:ext cx="482436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Line 11"/>
          <p:cNvSpPr/>
          <p:nvPr/>
        </p:nvSpPr>
        <p:spPr>
          <a:xfrm flipH="1" flipV="1">
            <a:off x="5435280" y="3860280"/>
            <a:ext cx="865080" cy="172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7093080" y="278136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дкрыль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6732720" y="53737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ыль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73864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Жуки – щелкуны и их личинки – проволочники вредят культурным растениям, повреждая их подземные част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2" name="Picture 5" descr="Картинка 4 из 388"/>
          <p:cNvPicPr/>
          <p:nvPr/>
        </p:nvPicPr>
        <p:blipFill>
          <a:blip r:embed="rId2"/>
          <a:stretch/>
        </p:blipFill>
        <p:spPr>
          <a:xfrm>
            <a:off x="4572000" y="3514680"/>
            <a:ext cx="4371840" cy="30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73" name="Picture 7" descr="Картинка 9 из 388"/>
          <p:cNvPicPr/>
          <p:nvPr/>
        </p:nvPicPr>
        <p:blipFill>
          <a:blip r:embed="rId3"/>
          <a:stretch/>
        </p:blipFill>
        <p:spPr>
          <a:xfrm>
            <a:off x="250920" y="2060640"/>
            <a:ext cx="4624200" cy="3600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738648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Личинки жуков – дровосеков, или усачей, - опасные вредители лес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6" name="Picture 5" descr="Картинка 5 из 382"/>
          <p:cNvPicPr/>
          <p:nvPr/>
        </p:nvPicPr>
        <p:blipFill>
          <a:blip r:embed="rId2"/>
          <a:stretch/>
        </p:blipFill>
        <p:spPr>
          <a:xfrm>
            <a:off x="250920" y="2205000"/>
            <a:ext cx="5715000" cy="4400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77" name="Picture 7" descr="Картинка 1 из 63"/>
          <p:cNvPicPr/>
          <p:nvPr/>
        </p:nvPicPr>
        <p:blipFill>
          <a:blip r:embed="rId3"/>
          <a:stretch/>
        </p:blipFill>
        <p:spPr>
          <a:xfrm>
            <a:off x="5135400" y="765000"/>
            <a:ext cx="4008600" cy="3005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78" name="Picture 9" descr="Картинка 37 из 63"/>
          <p:cNvPicPr/>
          <p:nvPr/>
        </p:nvPicPr>
        <p:blipFill>
          <a:blip r:embed="rId4"/>
          <a:stretch/>
        </p:blipFill>
        <p:spPr>
          <a:xfrm>
            <a:off x="6516720" y="3933720"/>
            <a:ext cx="1714320" cy="2867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738648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Слоники, или долгоносики, также вредят садам, огородам и леса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1" name="Picture 5" descr="Картинка 4 из 322"/>
          <p:cNvPicPr/>
          <p:nvPr/>
        </p:nvPicPr>
        <p:blipFill>
          <a:blip r:embed="rId2"/>
          <a:stretch/>
        </p:blipFill>
        <p:spPr>
          <a:xfrm>
            <a:off x="179280" y="2736720"/>
            <a:ext cx="5329440" cy="3880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82" name="Picture 7" descr="Картинка 7 из 322"/>
          <p:cNvPicPr/>
          <p:nvPr/>
        </p:nvPicPr>
        <p:blipFill>
          <a:blip r:embed="rId3"/>
          <a:stretch/>
        </p:blipFill>
        <p:spPr>
          <a:xfrm>
            <a:off x="4362480" y="1201680"/>
            <a:ext cx="4602240" cy="3451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ложные фасеточные глаз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3" name="Picture 5" descr="Картинка 163 из 186"/>
          <p:cNvPicPr/>
          <p:nvPr/>
        </p:nvPicPr>
        <p:blipFill>
          <a:blip r:embed="rId1"/>
          <a:stretch/>
        </p:blipFill>
        <p:spPr>
          <a:xfrm>
            <a:off x="250920" y="1312920"/>
            <a:ext cx="7057800" cy="5257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Ротовой аппарат грызущего тип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6" name="Picture 5" descr="Картинка 69 из 186"/>
          <p:cNvPicPr/>
          <p:nvPr/>
        </p:nvPicPr>
        <p:blipFill>
          <a:blip r:embed="rId1"/>
          <a:stretch/>
        </p:blipFill>
        <p:spPr>
          <a:xfrm>
            <a:off x="1476360" y="981000"/>
            <a:ext cx="5616720" cy="568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сик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Picture 9" descr="59736828_1275335910_8212"/>
          <p:cNvPicPr/>
          <p:nvPr/>
        </p:nvPicPr>
        <p:blipFill>
          <a:blip r:embed="rId1"/>
          <a:stretch/>
        </p:blipFill>
        <p:spPr>
          <a:xfrm>
            <a:off x="179280" y="1057320"/>
            <a:ext cx="8280360" cy="5524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Развитие с полным превращением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2" name="Picture 6" descr="PM3_32"/>
          <p:cNvPicPr/>
          <p:nvPr/>
        </p:nvPicPr>
        <p:blipFill>
          <a:blip r:embed="rId1"/>
          <a:stretch/>
        </p:blipFill>
        <p:spPr>
          <a:xfrm>
            <a:off x="1763640" y="1628640"/>
            <a:ext cx="4664160" cy="5021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Личинка жу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5" name="Picture 5" descr="Картинка 11 из 186"/>
          <p:cNvPicPr/>
          <p:nvPr/>
        </p:nvPicPr>
        <p:blipFill>
          <a:blip r:embed="rId1"/>
          <a:stretch/>
        </p:blipFill>
        <p:spPr>
          <a:xfrm>
            <a:off x="179280" y="1654200"/>
            <a:ext cx="7272360" cy="5035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1640" y="259920"/>
            <a:ext cx="348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уколка жу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8" name="Picture 5" descr="Картинка 5 из 186"/>
          <p:cNvPicPr/>
          <p:nvPr/>
        </p:nvPicPr>
        <p:blipFill>
          <a:blip r:embed="rId1"/>
          <a:stretch/>
        </p:blipFill>
        <p:spPr>
          <a:xfrm>
            <a:off x="324000" y="260280"/>
            <a:ext cx="4321080" cy="6296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1976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маг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1" name="Picture 5" descr="Картинка 25 из 64000"/>
          <p:cNvPicPr/>
          <p:nvPr/>
        </p:nvPicPr>
        <p:blipFill>
          <a:blip r:embed="rId1"/>
          <a:stretch/>
        </p:blipFill>
        <p:spPr>
          <a:xfrm>
            <a:off x="250920" y="861840"/>
            <a:ext cx="8497800" cy="5735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4:27:40Z</dcterms:created>
  <dc:creator>Бочкова И.А.</dc:creator>
  <dc:description/>
  <dc:language>en-US</dc:language>
  <cp:lastModifiedBy>LEGION</cp:lastModifiedBy>
  <dcterms:modified xsi:type="dcterms:W3CDTF">2014-11-25T11:08:11Z</dcterms:modified>
  <cp:revision>8</cp:revision>
  <dc:subject/>
  <dc:title>Отряд Жуки или Жесткокрылые</dc:title>
</cp:coreProperties>
</file>